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93239"/>
        <c:axId val="40426932"/>
      </c:barChart>
      <c:catAx>
        <c:axId val="46893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26932"/>
        <c:crosses val="autoZero"/>
        <c:auto val="1"/>
        <c:lblAlgn val="ctr"/>
        <c:lblOffset val="100"/>
        <c:noMultiLvlLbl val="0"/>
      </c:catAx>
      <c:valAx>
        <c:axId val="40426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93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6A0C-711E-48DF-94F1-89537449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EE51-87C9-4421-96AA-1A445BF6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5529-C9EE-4222-A347-4019FF58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EB9B-2062-460A-88C0-23D321E22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A74-F263-41E5-BCC6-80619F4F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D662-6407-4A19-875C-141E9935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C843-AC47-4C34-8C1C-4EC912C67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5E64-B2AB-404E-B8A0-854BF4DA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E4C-2118-4BDC-B3A0-03A548FC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71E-CF57-4356-A0A8-2D6C7EB3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97A-3A2F-415C-B963-8D3C77C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353A-8188-43B8-88A7-E009F741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9A545-7DA2-4366-930E-8A915D47E7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