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29954"/>
        <c:axId val="83419518"/>
      </c:barChart>
      <c:catAx>
        <c:axId val="85429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9518"/>
        <c:crosses val="autoZero"/>
        <c:auto val="1"/>
        <c:lblAlgn val="ctr"/>
        <c:lblOffset val="100"/>
        <c:noMultiLvlLbl val="0"/>
      </c:catAx>
      <c:valAx>
        <c:axId val="83419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29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4C2-C3D9-4759-9991-F96D7ED6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254-A523-49D2-82D0-31E3762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A20-F9F4-4C76-92EF-F7FC3752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1B1-9163-4DF8-90C1-0BF7022F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D3A-F604-428E-B45E-B9145B0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9A4-CF94-4F21-9571-E791E87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0E4-1D55-4E71-8F44-8F4FF83F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899-CA69-44AA-9D91-8276EB86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230-330C-4973-92AA-1415A01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968-8F40-41AD-9C87-CB831D0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943-BB2F-473C-BDFE-89AAAA4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B01-71C7-44BF-8745-050630A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4E472-30AD-488D-8ED1-C23278F44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