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44214"/>
        <c:axId val="39530662"/>
      </c:barChart>
      <c:catAx>
        <c:axId val="832442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30662"/>
        <c:crosses val="autoZero"/>
        <c:auto val="1"/>
        <c:lblAlgn val="ctr"/>
        <c:lblOffset val="100"/>
        <c:noMultiLvlLbl val="0"/>
      </c:catAx>
      <c:valAx>
        <c:axId val="395306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442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305-A15D-4B90-B79D-221F0C7C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EEC-1D39-4257-8106-0C5E247F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35FF-94AF-4B6A-854C-08608CBB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67A-F7BF-49A1-8AC1-9157DA22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3B64-8C60-49D7-BC04-F9716A8A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0F4-0CB3-45BB-9963-D53FB41F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6862-9CDC-4D8F-8063-50D531AB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0B0A-3691-41DC-B212-685BECB4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BDAC-20F6-4188-82D2-C571E2A6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BAC-BD06-4126-93DB-DFA47AA5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7B9-E00B-4416-A00F-A239B16C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B94-D513-429F-B845-678AFBA8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3272B-11A3-4C7A-B1FF-51CE1F4378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