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28838"/>
        <c:axId val="69990627"/>
      </c:barChart>
      <c:catAx>
        <c:axId val="65728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90627"/>
        <c:crosses val="autoZero"/>
        <c:auto val="1"/>
        <c:lblAlgn val="ctr"/>
        <c:lblOffset val="100"/>
        <c:noMultiLvlLbl val="0"/>
      </c:catAx>
      <c:valAx>
        <c:axId val="699906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28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BF0-1015-4711-9E16-D1EBBE7B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BE0-1162-4492-B4FC-CECBD8FE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13F-E086-47A5-BFD7-5358CD5F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EB0-2CFC-46CF-8AD6-0F40C8B9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30BA-3F28-43AD-9662-5D300F01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393-6437-401A-83AC-8F5DC18E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00E-FA43-4A42-A068-43D67AE5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5D6-FD9B-4BB4-94B5-21E84F53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B5B-C4E9-4F91-AC4E-86AC5140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0A6-C6B7-4CB1-8CB0-659B0445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2045-09AF-435C-9B8E-C69DBB67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B67-D2A8-4CE3-ABC6-8489AC74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C54D0-B8F3-47D3-93E6-3C8D8CE036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