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75005"/>
        <c:axId val="80291059"/>
      </c:barChart>
      <c:catAx>
        <c:axId val="94075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91059"/>
        <c:crosses val="autoZero"/>
        <c:auto val="1"/>
        <c:lblAlgn val="ctr"/>
        <c:lblOffset val="100"/>
        <c:noMultiLvlLbl val="0"/>
      </c:catAx>
      <c:valAx>
        <c:axId val="80291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75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754A-BAC7-4210-B9FE-89E39EF6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FC6-B57B-4B5F-8AB7-0E736B73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BC6-44C1-47E9-870F-D8D0ED3B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81A4-3DD8-4D7F-81B3-5E9F20B7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477-4AB9-4C1B-A17E-1EE164DF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BC5-5E64-4907-9340-ED7487F1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AF3-45C4-4078-8251-E329E0A2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259-362A-41B2-9695-DD479050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20D-9F39-4236-80D6-E7759FBE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D7BE-A7C1-4605-8DCD-FCDF16C4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1389-4C70-4BB5-A2CF-394D0999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F58-A464-40A8-95E1-CA2A0A1D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75398-02C2-450D-AED0-7EBDA1ACDB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