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4355"/>
        <c:axId val="43851677"/>
      </c:barChart>
      <c:catAx>
        <c:axId val="8484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51677"/>
        <c:crosses val="autoZero"/>
        <c:auto val="1"/>
        <c:lblAlgn val="ctr"/>
        <c:lblOffset val="100"/>
        <c:noMultiLvlLbl val="0"/>
      </c:catAx>
      <c:valAx>
        <c:axId val="43851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4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67B-A0E7-415E-A3CB-FE8CB535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1C1-BD48-47E4-93A6-278584FA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DDE-9BDC-4470-8DB5-0DF710DE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5C2-865E-4AE7-8796-0BB9982E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0FA-8678-4DD2-80E1-B7C155EA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F2E-66C6-4512-AA1B-7A8FA327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DD2-D3EF-41A6-AF16-1EC8F921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37E-29F3-46A9-90B4-AC6FE656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DE8-36EA-435B-873C-4CD94E62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0B3-92C2-49DE-81DE-273F017C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5BE-47B2-49B6-82CC-CD673DB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4E9-C555-46BE-A8AA-9192753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1B020-4C0B-443D-874B-125B366D80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