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18804"/>
        <c:axId val="50816074"/>
      </c:barChart>
      <c:catAx>
        <c:axId val="35188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816074"/>
        <c:crosses val="autoZero"/>
        <c:auto val="1"/>
        <c:lblAlgn val="ctr"/>
        <c:lblOffset val="100"/>
        <c:noMultiLvlLbl val="0"/>
      </c:catAx>
      <c:valAx>
        <c:axId val="508160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88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542-8442-4565-A878-A7A430818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52676-C352-4CB1-BDB8-81F5BC98B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D26-B529-4ACB-BFF3-FFDB3605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0B5-696A-44A8-9AA8-3460A78C2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6B5-6157-4461-90FB-22C3C73C4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C777-DA6B-4442-BE31-D4C10C3C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1126-A26A-451F-A26D-C40B86187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86B2-2BD5-492D-AEBE-3ECE60BF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BE1-C014-4732-A66E-0675CD334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394-D287-48BB-B021-28F8921E9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22DB-5110-412A-A98D-CC3DCCD5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FFB3-940A-45F5-BB57-F6283D0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43405-8306-4C50-8D0B-C69D6BD855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