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573115"/>
        <c:axId val="64666265"/>
      </c:barChart>
      <c:catAx>
        <c:axId val="335731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6265"/>
        <c:crosses val="autoZero"/>
        <c:auto val="1"/>
        <c:lblAlgn val="ctr"/>
        <c:lblOffset val="100"/>
        <c:noMultiLvlLbl val="0"/>
      </c:catAx>
      <c:valAx>
        <c:axId val="646662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5731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B42B-A463-4DB7-B7A3-D439516AD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C925-03B7-41B0-9413-A7B6198E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6DFE-FF42-4A5A-A889-63250439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96E5-EC2E-40DC-B567-86F1BD98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3DF2-ED78-4850-9527-A53C7DBA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D9D-11D0-45D3-900A-97A2A93F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3E19-6FF6-4835-9621-9CB05B69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74C-3D63-4329-800B-3ED28AF6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AD45-FFB4-4B84-95C9-A061A768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4A5-72E2-4ADD-A8CE-5F6E2797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8E03-A8B9-4928-AFC1-316B18BE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905-9B85-4A8E-BEF9-45F4993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701D9-E466-4C7C-9675-6C7148102C6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