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21496"/>
        <c:axId val="58581228"/>
      </c:barChart>
      <c:catAx>
        <c:axId val="904214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1228"/>
        <c:crosses val="autoZero"/>
        <c:auto val="1"/>
        <c:lblAlgn val="ctr"/>
        <c:lblOffset val="100"/>
        <c:noMultiLvlLbl val="0"/>
      </c:catAx>
      <c:valAx>
        <c:axId val="58581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214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4A45-E147-4F98-9CCE-804BD6BA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2E1-1D0F-48BC-A384-BD55DA6E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C94-F9CB-4003-9373-C4033A38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3CA-2BD8-4087-8DC7-710190FF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3BD-9CDF-408B-B68E-3AD982CE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8CA-CFCB-4A21-B7C0-EF658324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B81-12A0-4203-B15E-A11EB6F0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FBE-F401-46B0-908F-924B33E3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96E-56AE-41F7-9207-6858DCBA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EF1-B83B-4D4E-80DF-48F6484A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D7F-F0A3-4FCD-B248-AA0D64A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65B-D881-4951-ADCD-989D25A5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694DB-EFDB-46C6-8F8C-0F47581250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